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10A20-2D77-4B3F-96BE-CC916F2F5B5E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Należy zwrócić uwagę uczniów, że dwa z podanych wyrażeń pasują do jednego prostokąt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73C92-BAE7-45A8-81B5-37194991959E}" type="slidenum">
              <a:rPr b="0" lang="pl-PL" sz="1200" spc="-1" strike="noStrike">
                <a:solidFill>
                  <a:srgbClr val="000000"/>
                </a:solidFill>
                <a:latin typeface="Candar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rzed przystąpieniem do rozwiązania zadań warto porozmawiać z uczniami na temat ich wieku i wieku ich rodzeństwa oraz rodziców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703FA-7942-4362-B8BF-0AE5C6203EE5}" type="slidenum">
              <a:rPr b="0" lang="pl-PL" sz="1200" spc="-1" strike="noStrike">
                <a:solidFill>
                  <a:srgbClr val="000000"/>
                </a:solidFill>
                <a:latin typeface="Candar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Zanim podamy uczniom zadanie. Zapytajmy ich: ile lat mieli trzy lata temu, a ile będą mieli za trzy lata? Pozwoli to gimnazjalistom lepiej zrozumieć treść zadani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A2A62-4FA4-4C53-BA09-EC8C724D6BFA}" type="slidenum">
              <a:rPr b="0" lang="pl-PL" sz="1200" spc="-1" strike="noStrike">
                <a:solidFill>
                  <a:srgbClr val="000000"/>
                </a:solidFill>
                <a:latin typeface="Candar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Należy zasugerować uczniom, że odrzucimy tylko jedno z podanych wyrażeń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FD58D-D45A-4F5B-873E-D875F2451AA4}" type="slidenum">
              <a:rPr b="0" lang="pl-PL" sz="1200" spc="-1" strike="noStrike">
                <a:solidFill>
                  <a:srgbClr val="000000"/>
                </a:solidFill>
                <a:latin typeface="Candar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łaściwe rozwiązanie x=6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4F2D0-7594-4615-B336-2362D9E97EBF}" type="slidenum">
              <a:rPr b="0" lang="pl-PL" sz="1200" spc="-1" strike="noStrike">
                <a:solidFill>
                  <a:srgbClr val="000000"/>
                </a:solidFill>
                <a:latin typeface="Candar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564A0-D7BB-48F2-8DAA-94F5FF2B5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0FE46-7F67-412B-B0A6-F577A420C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A03D2-3565-48B4-8375-1A17D5D37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66BC7-94AD-49B6-8FCB-DC81A773F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9AA18-8074-495D-888C-56664D5E9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7F27B-2A0F-416A-8CE1-F69FAE922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D97C6-12EC-4CE0-BFF2-82CCB1913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19BFE-C575-45D9-A44A-FEDD26819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732B1-91EE-4647-8C3C-F229BDC3C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E1179-548A-4B93-A3A9-6951ACDEC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341F5-4ABD-4A56-B6FA-25FE188AE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332B8-BD0F-40C1-8CD7-D42E5DF61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376B9-3728-4630-B1AC-DA7B428A6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24B9E-E20F-47A3-B5A3-27A98CBCD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123DC-7412-4806-883A-1F6FDF14C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A0BA4-C413-4677-B908-F1C931315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1F951-B461-4587-9F98-A357A5C03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62B96F-77B2-4665-AF32-673C08C7D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4B18DA-CC55-472C-93E6-6324DE0E7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0F3FB0-38E7-4DDC-9B9C-B3E9A6B2A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495130-425D-4AE5-9BE7-5EA1C333C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50E3BC-0D0C-48B9-AA2A-D6FF85B4F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DF671-3A68-4328-90EE-5F7A3DFE9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0B458D-1BBE-44F7-BDA5-7AC68E3B6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554326-A0EF-49F1-B9F7-FDAF41B5B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096063-83CD-40C0-9CD3-C4AE5E19E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C8ABA3-777C-471C-87AB-F29AB54E7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B365FB-8AB9-45CE-8FEA-073D1A510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6FEBDD-36D0-48CE-85A4-273F0617D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E8517F-BD2E-42AA-A7B1-ADDEA999C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C4029A-8DE3-482C-A5D9-DCA71A36D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453CBB-777D-4214-84DE-C7423BBF8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EFC446-430E-492C-B2D6-95D63C0CE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CB5D3-056A-47A3-869C-4E4BB4A42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EAD92D-4408-4B87-A52E-7E28B3121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8AF0D6-19EF-44B9-8C83-EF62D7525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E04A8B-6B61-41FC-BE13-ACEC81F8E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FEC945-EF02-49F2-817D-7146D3FF8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D54CEC-6D37-440B-9A1D-D480B4906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830DF4-4A47-4864-80C9-821069780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E43E82-23EE-484B-9CC3-7C7533FC7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BC1D32-3194-470D-AB68-5B4E32660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189CA3-CF56-49F1-9E6D-7AB10AADA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AEC67D-99B8-4533-A2EA-64D634142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5C270-A644-4007-97AE-7B6913153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D45EE2-3762-4890-954B-D7066BBEE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105726-55BD-40EE-8EF9-4538566CE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7DEC48-CB8A-456A-A10F-3EDD603CA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EEC8DB-B5F0-4A3E-B152-5714107B7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8D1588-D954-481C-BAF4-D8CDDC48C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E5F8CB-A164-4DB1-A0FC-A84010BC8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FE8A50-F440-43E3-82FC-9403658B5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5746B8-76A9-4772-A897-463BDD2A7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94DE82-7B4B-4974-8EDF-DA492999A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1A648D-AC3A-45E1-BCCB-5E2FE0DD8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4BC0B-08BA-4D15-A04E-A0EEE69BB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18B999-8A74-4B2C-9DC9-00A5C0474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DAE98A-3685-4640-A820-62C23E40D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571BC5-A83B-4C51-A8E1-3D3E24E59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1F3211-A0AF-4F69-AB8F-3C40DAE82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E0F909-7954-4240-82D9-FD5836915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F2CB13-7077-4C25-A65D-0880C6B7E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427CE3-1BD8-4F4E-B9FF-F744C300E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B53797-2690-455F-86BB-E4FC48D14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EA574E-B9FA-4BD9-9D8C-255751761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1F4722-7027-46E9-9053-9ECCB63FB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1B87D-0B96-4C51-8DE1-3F50422AD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79871A-3ACB-4FD2-A35D-D1233A11F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7881B6-618B-4354-8709-64EA67E06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87199E-FB7E-4FB7-9706-877461CE7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4F2973-E113-4942-9591-57943B136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FCC602-B331-4DBA-96C6-B7A919682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4D1614-9EE2-4D3C-BB81-EAB4658AE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EF7A1F-9676-4CE8-A345-3E35D5E30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B1B7A0-1E58-4A54-B1F4-3749E7968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7678C4-9482-4245-B87F-A3162E911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A02D32-79D7-49F6-B17B-F9C02FDF5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20B50-BB38-48FC-A674-07AD7535C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1E365F-D7D6-4138-9EB1-491CBA9C1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546403-5A2D-4E6F-8C69-C86F17EEB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325869-1557-42E9-9C97-CEA83E25A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14D167-0569-45A7-90CF-1C91A2245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7250EE-A666-48B8-8D43-67707B903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AF053-35E6-4C41-9453-B747E6219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67A3E-1302-4C14-AEAD-7D643AA0D81F}" type="slidenum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5B1CF-FE70-48D9-B92E-35B66DC63F08}" type="slidenum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5CEF6-6306-413F-AB55-168F73BFFC11}" type="slidenum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99F9D-C3E5-47CA-9C38-DF520171BBC1}" type="slidenum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0BED4-A174-4913-92FE-CCA81E9729C7}" type="slidenum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DBB51-7FCF-4B6E-85C4-A44F0C058C81}" type="slidenum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B6D59-1B58-4C35-BE76-CE5760780267}" type="slidenum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77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Candara"/>
              </a:rPr>
              <a:t>Jedno zadanie – kilka rozwiązań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Candara"/>
              </a:rPr>
              <a:t>Zadania dotyczące „wieku”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Oto inny przykład zadania i kilka sposobów jego rozwiązania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Zadanie 2. Tomek ma 14 lat, a jego mama 38. Oblicz kiedy mama była od Tomka pięć razy starsza. Za ile lat będzie od niego dwa razy starsza?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Pamiętaj! Jak mamie przybędzie lat, to Tomkowi również i to tyle samo co mamie.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 txBox="1"/>
          <p:nvPr/>
        </p:nvSpPr>
        <p:spPr>
          <a:xfrm>
            <a:off x="871560" y="1700280"/>
            <a:ext cx="7408800" cy="44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Rozwiązanie: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1. Analiza zadania.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Warto zadanie to podzielić na dwie części.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Tomek ma 14 lat, a jego mama 38.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buClr>
                <a:srgbClr val="31b6fd"/>
              </a:buClr>
              <a:buFont typeface="Candar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Oblicz kiedy mama była od Tomka pięć razy starsza.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buClr>
                <a:srgbClr val="31b6fd"/>
              </a:buClr>
              <a:buFont typeface="Candar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Za ile lat będzie od niego dwa razy starsza?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Pytania pomocnicze: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buClr>
                <a:srgbClr val="31b6fd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Ile osób występuje w zadaniu?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buClr>
                <a:srgbClr val="31b6fd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Ile okresów czasu pojawia się w zadaniu?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buClr>
                <a:srgbClr val="31b6fd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Co oznaczymy przez niewiadomą?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Candara"/>
              </a:rPr>
              <a:t>I. Metoda tabelki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3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3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3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3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3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3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3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3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3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3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871560" y="2060280"/>
            <a:ext cx="740880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31b6fd"/>
              </a:buClr>
              <a:buFont typeface="Candar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Oblicz kiedy mama była od Tomka pięć razy starsza.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Uzupełnij tabelkę wykorzystując podane wyrażenia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457200" indent="-457200">
              <a:spcBef>
                <a:spcPts val="601"/>
              </a:spcBef>
              <a:buClr>
                <a:srgbClr val="31b6fd"/>
              </a:buClr>
              <a:buFont typeface="Candar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457200" indent="-457200">
              <a:spcBef>
                <a:spcPts val="601"/>
              </a:spcBef>
              <a:buClr>
                <a:srgbClr val="31b6fd"/>
              </a:buClr>
              <a:buFont typeface="Candar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graphicFrame>
        <p:nvGraphicFramePr>
          <p:cNvPr id="377" name=""/>
          <p:cNvGraphicFramePr/>
          <p:nvPr/>
        </p:nvGraphicFramePr>
        <p:xfrm>
          <a:off x="1403280" y="3284640"/>
          <a:ext cx="4572000" cy="1112760"/>
        </p:xfrm>
        <a:graphic>
          <a:graphicData uri="http://schemas.openxmlformats.org/drawingml/2006/table">
            <a:tbl>
              <a:tblPr/>
              <a:tblGrid>
                <a:gridCol w="1524240"/>
                <a:gridCol w="1523880"/>
                <a:gridCol w="152388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Tome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ma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</a:tr>
            </a:tbl>
          </a:graphicData>
        </a:graphic>
      </p:graphicFrame>
      <p:sp>
        <p:nvSpPr>
          <p:cNvPr id="378" name="Łącznik prostoliniowy 5"/>
          <p:cNvSpPr/>
          <p:nvPr/>
        </p:nvSpPr>
        <p:spPr>
          <a:xfrm>
            <a:off x="1403280" y="3284640"/>
            <a:ext cx="151308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79" name="Łącznik prostoliniowy 7"/>
          <p:cNvSpPr/>
          <p:nvPr/>
        </p:nvSpPr>
        <p:spPr>
          <a:xfrm flipV="1">
            <a:off x="1403280" y="3284280"/>
            <a:ext cx="151308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80" name="pole tekstowe 9"/>
          <p:cNvSpPr/>
          <p:nvPr/>
        </p:nvSpPr>
        <p:spPr>
          <a:xfrm>
            <a:off x="1763640" y="4791240"/>
            <a:ext cx="129564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</a:rPr>
              <a:t>x lat temu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81" name="pole tekstowe 10"/>
          <p:cNvSpPr/>
          <p:nvPr/>
        </p:nvSpPr>
        <p:spPr>
          <a:xfrm>
            <a:off x="5796000" y="4822920"/>
            <a:ext cx="129708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82" name="pole tekstowe 11"/>
          <p:cNvSpPr/>
          <p:nvPr/>
        </p:nvSpPr>
        <p:spPr>
          <a:xfrm>
            <a:off x="1692360" y="5535720"/>
            <a:ext cx="129528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</a:rPr>
              <a:t>38-x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83" name="pole tekstowe 12"/>
          <p:cNvSpPr/>
          <p:nvPr/>
        </p:nvSpPr>
        <p:spPr>
          <a:xfrm>
            <a:off x="3851280" y="4791240"/>
            <a:ext cx="129708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579600"/>
            <a:ext cx="8229600" cy="76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Candara"/>
              </a:rPr>
              <a:t>I. Metoda tabelki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85" name="pole tekstowe 14"/>
          <p:cNvSpPr/>
          <p:nvPr/>
        </p:nvSpPr>
        <p:spPr>
          <a:xfrm>
            <a:off x="3564000" y="5715000"/>
            <a:ext cx="129528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</a:rPr>
              <a:t>za x lat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86" name="pole tekstowe 15"/>
          <p:cNvSpPr/>
          <p:nvPr/>
        </p:nvSpPr>
        <p:spPr>
          <a:xfrm>
            <a:off x="5580000" y="5535720"/>
            <a:ext cx="129564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</a:rPr>
              <a:t>38+x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87" name="pole tekstowe 16"/>
          <p:cNvSpPr/>
          <p:nvPr/>
        </p:nvSpPr>
        <p:spPr>
          <a:xfrm>
            <a:off x="7164360" y="5345280"/>
            <a:ext cx="129528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</a:rPr>
              <a:t>14+x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88" name="pole tekstowe 17"/>
          <p:cNvSpPr/>
          <p:nvPr/>
        </p:nvSpPr>
        <p:spPr>
          <a:xfrm>
            <a:off x="7380360" y="4791240"/>
            <a:ext cx="129528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</a:rPr>
              <a:t>14-x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89" name="pole tekstowe 18"/>
          <p:cNvSpPr/>
          <p:nvPr/>
        </p:nvSpPr>
        <p:spPr>
          <a:xfrm>
            <a:off x="6438960" y="3637080"/>
            <a:ext cx="129528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</a:rPr>
              <a:t>5(14-x)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90" name="pole tekstowe 19"/>
          <p:cNvSpPr/>
          <p:nvPr/>
        </p:nvSpPr>
        <p:spPr>
          <a:xfrm>
            <a:off x="7304040" y="4192560"/>
            <a:ext cx="129528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</a:rPr>
              <a:t>5(38-x)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 txBox="1"/>
          <p:nvPr/>
        </p:nvSpPr>
        <p:spPr>
          <a:xfrm>
            <a:off x="468360" y="1916280"/>
            <a:ext cx="842472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-443160">
              <a:spcBef>
                <a:spcPts val="601"/>
              </a:spcBef>
              <a:buClr>
                <a:srgbClr val="31b6fd"/>
              </a:buClr>
              <a:buFont typeface="Candar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Wskaż równanie, które doprowadzi do rozwiązania zadania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443160" indent="-443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38 – x =5(14 – x)</a:t>
            </a: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14 – x = 5(38 – x)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443160" indent="-443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38 + x = 5(14+x)</a:t>
            </a: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14+x = 38 – x 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443160" indent="-443160">
              <a:spcBef>
                <a:spcPts val="601"/>
              </a:spcBef>
              <a:buClr>
                <a:srgbClr val="31b6fd"/>
              </a:buClr>
              <a:buFont typeface="Candar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Rozwiąż równanie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443160" indent="-443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 </a:t>
            </a: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38 – x =5(14 – x)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443160" indent="-443160">
              <a:spcBef>
                <a:spcPts val="601"/>
              </a:spcBef>
              <a:buClr>
                <a:srgbClr val="31b6fd"/>
              </a:buClr>
              <a:buFont typeface="Candar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Sprawdzenie, czy otrzymane rozwiązanie spełnia warunki zadania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443160" indent="-443160">
              <a:spcBef>
                <a:spcPts val="601"/>
              </a:spcBef>
              <a:buClr>
                <a:srgbClr val="31b6fd"/>
              </a:buClr>
              <a:buFont typeface="Candar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Zapisz odpowiedź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443160" indent="-443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Odp. Mama </a:t>
            </a:r>
            <a:r>
              <a:rPr b="0" lang="pl-PL" sz="2400" spc="-1" strike="noStrike" u="sng">
                <a:solidFill>
                  <a:srgbClr val="073e87"/>
                </a:solidFill>
                <a:uFillTx/>
                <a:latin typeface="Candara"/>
              </a:rPr>
              <a:t>	</a:t>
            </a:r>
            <a:r>
              <a:rPr b="0" lang="pl-PL" sz="2400" spc="-1" strike="noStrike" u="sng">
                <a:solidFill>
                  <a:srgbClr val="073e87"/>
                </a:solidFill>
                <a:uFillTx/>
                <a:latin typeface="Candara"/>
              </a:rPr>
              <a:t>      </a:t>
            </a: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 lat temu była 5 razy starsza od Tomka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443160" indent="-443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Candara"/>
              </a:rPr>
              <a:t>I. Metoda tabelki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3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3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3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3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3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3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3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3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3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3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 txBox="1"/>
          <p:nvPr/>
        </p:nvSpPr>
        <p:spPr>
          <a:xfrm>
            <a:off x="684360" y="1557000"/>
            <a:ext cx="7408800" cy="395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31b6fd"/>
              </a:buClr>
              <a:buFont typeface="Candara"/>
              <a:buAutoNum type="alphaL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Za ile lat będzie od niego dwa razy starsza?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Uzupełnij tabelkę wykorzystując podane wyrażenia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457200" indent="-457200">
              <a:spcBef>
                <a:spcPts val="601"/>
              </a:spcBef>
              <a:buClr>
                <a:srgbClr val="31b6fd"/>
              </a:buClr>
              <a:buFont typeface="Candara"/>
              <a:buAutoNum type="alphaL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457200" indent="-457200">
              <a:spcBef>
                <a:spcPts val="601"/>
              </a:spcBef>
              <a:buClr>
                <a:srgbClr val="31b6fd"/>
              </a:buClr>
              <a:buFont typeface="Candara"/>
              <a:buAutoNum type="alphaL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457200" indent="-457200">
              <a:spcBef>
                <a:spcPts val="601"/>
              </a:spcBef>
              <a:buClr>
                <a:srgbClr val="31b6fd"/>
              </a:buClr>
              <a:buFont typeface="Candara"/>
              <a:buAutoNum type="alphaL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	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Candara"/>
              </a:rPr>
              <a:t>I. Metoda tabelki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graphicFrame>
        <p:nvGraphicFramePr>
          <p:cNvPr id="395" name=""/>
          <p:cNvGraphicFramePr/>
          <p:nvPr/>
        </p:nvGraphicFramePr>
        <p:xfrm>
          <a:off x="1332000" y="2655720"/>
          <a:ext cx="4572000" cy="1113120"/>
        </p:xfrm>
        <a:graphic>
          <a:graphicData uri="http://schemas.openxmlformats.org/drawingml/2006/table">
            <a:tbl>
              <a:tblPr/>
              <a:tblGrid>
                <a:gridCol w="1523880"/>
                <a:gridCol w="1523880"/>
                <a:gridCol w="152424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Tome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ma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</a:tr>
            </a:tbl>
          </a:graphicData>
        </a:graphic>
      </p:graphicFrame>
      <p:sp>
        <p:nvSpPr>
          <p:cNvPr id="396" name="Łącznik prostoliniowy 7"/>
          <p:cNvSpPr/>
          <p:nvPr/>
        </p:nvSpPr>
        <p:spPr>
          <a:xfrm>
            <a:off x="1346040" y="2690640"/>
            <a:ext cx="151308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97" name="Łącznik prostoliniowy 15"/>
          <p:cNvSpPr/>
          <p:nvPr/>
        </p:nvSpPr>
        <p:spPr>
          <a:xfrm flipH="1">
            <a:off x="1318680" y="2690640"/>
            <a:ext cx="151164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98" name="pole tekstowe 9"/>
          <p:cNvSpPr/>
          <p:nvPr/>
        </p:nvSpPr>
        <p:spPr>
          <a:xfrm>
            <a:off x="1427040" y="4076640"/>
            <a:ext cx="129564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</a:rPr>
              <a:t>14 + y  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99" name="pole tekstowe 9"/>
          <p:cNvSpPr/>
          <p:nvPr/>
        </p:nvSpPr>
        <p:spPr>
          <a:xfrm>
            <a:off x="1427040" y="4869000"/>
            <a:ext cx="129564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</a:rPr>
              <a:t>14 – y 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00" name="pole tekstowe 9"/>
          <p:cNvSpPr/>
          <p:nvPr/>
        </p:nvSpPr>
        <p:spPr>
          <a:xfrm>
            <a:off x="1427040" y="5661000"/>
            <a:ext cx="129564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</a:rPr>
              <a:t>38 +y 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01" name="pole tekstowe 9"/>
          <p:cNvSpPr/>
          <p:nvPr/>
        </p:nvSpPr>
        <p:spPr>
          <a:xfrm>
            <a:off x="3276720" y="4076640"/>
            <a:ext cx="129528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</a:rPr>
              <a:t>38 – y  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02" name="pole tekstowe 9"/>
          <p:cNvSpPr/>
          <p:nvPr/>
        </p:nvSpPr>
        <p:spPr>
          <a:xfrm>
            <a:off x="3429000" y="4869000"/>
            <a:ext cx="129528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</a:rPr>
              <a:t>obecnie 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03" name="pole tekstowe 9"/>
          <p:cNvSpPr/>
          <p:nvPr/>
        </p:nvSpPr>
        <p:spPr>
          <a:xfrm>
            <a:off x="5437080" y="4869000"/>
            <a:ext cx="129564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</a:rPr>
              <a:t>38 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04" name="pole tekstowe 9"/>
          <p:cNvSpPr/>
          <p:nvPr/>
        </p:nvSpPr>
        <p:spPr>
          <a:xfrm>
            <a:off x="3581280" y="5661000"/>
            <a:ext cx="129564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05" name="pole tekstowe 9"/>
          <p:cNvSpPr/>
          <p:nvPr/>
        </p:nvSpPr>
        <p:spPr>
          <a:xfrm>
            <a:off x="5292720" y="4076640"/>
            <a:ext cx="129528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</a:rPr>
              <a:t>y lat temu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06" name="pole tekstowe 9"/>
          <p:cNvSpPr/>
          <p:nvPr/>
        </p:nvSpPr>
        <p:spPr>
          <a:xfrm>
            <a:off x="5437080" y="5661000"/>
            <a:ext cx="129564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</a:rPr>
              <a:t>za y lat 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07" name="pole tekstowe 9"/>
          <p:cNvSpPr/>
          <p:nvPr/>
        </p:nvSpPr>
        <p:spPr>
          <a:xfrm>
            <a:off x="7164360" y="4076640"/>
            <a:ext cx="129528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</a:rPr>
              <a:t>2(14 + y) 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08" name="pole tekstowe 9"/>
          <p:cNvSpPr/>
          <p:nvPr/>
        </p:nvSpPr>
        <p:spPr>
          <a:xfrm>
            <a:off x="7164360" y="4890960"/>
            <a:ext cx="129528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</a:rPr>
              <a:t>2(38 + y)  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 txBox="1"/>
          <p:nvPr/>
        </p:nvSpPr>
        <p:spPr>
          <a:xfrm>
            <a:off x="394920" y="1844280"/>
            <a:ext cx="849780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47840" indent="-447840">
              <a:spcBef>
                <a:spcPts val="601"/>
              </a:spcBef>
              <a:buClr>
                <a:srgbClr val="31b6fd"/>
              </a:buClr>
              <a:buFont typeface="Candar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Wskaż równanie, które doprowadzi do rozwiązania zadania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447840" indent="-447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38 – y =2(14 – y)</a:t>
            </a: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14 – y = 2(38 – y)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447840" indent="-447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38 + y = 2(14+y)</a:t>
            </a: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14+y = 38 – y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447840" indent="-447840">
              <a:spcBef>
                <a:spcPts val="601"/>
              </a:spcBef>
              <a:buClr>
                <a:srgbClr val="31b6fd"/>
              </a:buClr>
              <a:buFont typeface="Candara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Rozwiąż równanie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447840" indent="-447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 </a:t>
            </a: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38 + y = 2(14+y)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447840" indent="-447840">
              <a:spcBef>
                <a:spcPts val="601"/>
              </a:spcBef>
              <a:buClr>
                <a:srgbClr val="31b6fd"/>
              </a:buClr>
              <a:buFont typeface="Candara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Sprawdzenie, czy otrzymane rozwiązanie spełnia warunki zadania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447840" indent="-447840">
              <a:spcBef>
                <a:spcPts val="601"/>
              </a:spcBef>
              <a:buClr>
                <a:srgbClr val="31b6fd"/>
              </a:buClr>
              <a:buFont typeface="Candara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Zapisz odpowiedź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447840" indent="-447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Odp. Za </a:t>
            </a:r>
            <a:r>
              <a:rPr b="0" lang="pl-PL" sz="2400" spc="-1" strike="noStrike" u="sng">
                <a:solidFill>
                  <a:srgbClr val="073e87"/>
                </a:solidFill>
                <a:uFillTx/>
                <a:latin typeface="Candara"/>
              </a:rPr>
              <a:t>	</a:t>
            </a: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 lat mama będzie 2 razy starsza od Tomka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447840" indent="-447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447840" indent="-447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Candara"/>
              </a:rPr>
              <a:t>I. Metoda tabelki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1000"/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1000"/>
                                        <p:tgtEl>
                                          <p:spTgt spid="4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4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4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1000"/>
                                        <p:tgtEl>
                                          <p:spTgt spid="4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4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4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1000"/>
                                        <p:tgtEl>
                                          <p:spTgt spid="4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4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4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1000"/>
                                        <p:tgtEl>
                                          <p:spTgt spid="4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4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4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 txBox="1"/>
          <p:nvPr/>
        </p:nvSpPr>
        <p:spPr>
          <a:xfrm>
            <a:off x="871560" y="1557000"/>
            <a:ext cx="740880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31b6fd"/>
              </a:buClr>
              <a:buFont typeface="Candar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Oblicz kiedy mama była od Tomka pięć razy starsza. Określenie niewiadomej: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38 – obecny wiek mamy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14 – obecny wiek Tomka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38 – x – wiek mamy x lat temu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14 – x – wiek Tomka x lat temu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Candara"/>
              </a:rPr>
              <a:t>II. Metoda rysunku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2627280" y="4292640"/>
          <a:ext cx="3097080" cy="1828800"/>
        </p:xfrm>
        <a:graphic>
          <a:graphicData uri="http://schemas.openxmlformats.org/drawingml/2006/table">
            <a:tbl>
              <a:tblPr/>
              <a:tblGrid>
                <a:gridCol w="1549440"/>
                <a:gridCol w="1547640"/>
              </a:tblGrid>
              <a:tr h="36828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14 – x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83f4"/>
                    </a:solidFill>
                  </a:tcPr>
                </a:tc>
                <a:tc rowSpan="5"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Candara"/>
                        </a:rPr>
                        <a:t>38 – x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</a:tr>
              <a:tr h="36828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14 – x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d83f4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14 – x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d83f4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14 – x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d83f4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9124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14 – x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d83f4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Metoda ta, podobnie jak poprzednia, prowadzi do zapisu treści zadania w postaci równania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Z treści zadania wiemy, że x lat temu mama była 5 razy starsza od Tomka. Zatem pięciokrotność wieku Tomka x lat temu daje wiek matki x lat temu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Stąd: </a:t>
            </a: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5(14 – x) = 38 – x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Candara"/>
              </a:rPr>
              <a:t>II. Metoda rysunku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4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4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 txBox="1"/>
          <p:nvPr/>
        </p:nvSpPr>
        <p:spPr>
          <a:xfrm>
            <a:off x="871560" y="1989000"/>
            <a:ext cx="740880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31b6fd"/>
              </a:buClr>
              <a:buFont typeface="Candara"/>
              <a:buAutoNum type="alphaL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Za ile lat będzie od niego dwa razy starsza?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Określenie niewiadomej: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38 – obecny wiek mamy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14 – obecny wiek Tomka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38 + y – wiek mamy za y l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14 + y – wiek Tomka za y l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Candara"/>
              </a:rPr>
              <a:t>II. Metoda rysunku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graphicFrame>
        <p:nvGraphicFramePr>
          <p:cNvPr id="418" name=""/>
          <p:cNvGraphicFramePr/>
          <p:nvPr/>
        </p:nvGraphicFramePr>
        <p:xfrm>
          <a:off x="1692360" y="5013360"/>
          <a:ext cx="3024000" cy="741240"/>
        </p:xfrm>
        <a:graphic>
          <a:graphicData uri="http://schemas.openxmlformats.org/drawingml/2006/table">
            <a:tbl>
              <a:tblPr/>
              <a:tblGrid>
                <a:gridCol w="1511280"/>
                <a:gridCol w="1512720"/>
              </a:tblGrid>
              <a:tr h="3697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Candara"/>
                        </a:rPr>
                        <a:t>14 + 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Candara"/>
                        </a:rPr>
                        <a:t>38 +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14+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4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4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4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4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4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4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4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4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Metoda ta, podobnie jak poprzednia, prowadzi do zapisu treści zadania w postaci równania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Z treści zadania wiemy, że za y lat mama będzie 2 razy starsza od Tomka. Zatem dwukrotność wieku Tomka za y lat daje wiek matki za y lat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Stąd: </a:t>
            </a: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2(14 + y) = 38 + y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Candara"/>
              </a:rPr>
              <a:t>II. Metoda rysunku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871560" y="1700280"/>
            <a:ext cx="7408800" cy="44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25160" indent="-425160">
              <a:spcBef>
                <a:spcPts val="550"/>
              </a:spcBef>
              <a:buClr>
                <a:srgbClr val="31b6fd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73e87"/>
                </a:solidFill>
                <a:latin typeface="Candara"/>
              </a:rPr>
              <a:t>Analiza treści zadania (po dokładnym zapoznaniu się </a:t>
            </a:r>
            <a:br>
              <a:rPr sz="2200"/>
            </a:br>
            <a:r>
              <a:rPr b="0" lang="pl-PL" sz="2200" spc="-1" strike="noStrike">
                <a:solidFill>
                  <a:srgbClr val="073e87"/>
                </a:solidFill>
                <a:latin typeface="Candara"/>
              </a:rPr>
              <a:t>z treścią zadania ustalamy niewiadomą, wykorzystując ją </a:t>
            </a:r>
            <a:br>
              <a:rPr sz="2200"/>
            </a:br>
            <a:r>
              <a:rPr b="0" lang="pl-PL" sz="2200" spc="-1" strike="noStrike">
                <a:solidFill>
                  <a:srgbClr val="073e87"/>
                </a:solidFill>
                <a:latin typeface="Candara"/>
              </a:rPr>
              <a:t>i używając danych układamy wyrażenia arytmetyczne</a:t>
            </a:r>
            <a:br>
              <a:rPr sz="2200"/>
            </a:br>
            <a:r>
              <a:rPr b="0" lang="pl-PL" sz="2200" spc="-1" strike="noStrike">
                <a:solidFill>
                  <a:srgbClr val="073e87"/>
                </a:solidFill>
                <a:latin typeface="Candara"/>
              </a:rPr>
              <a:t>i algebraiczne, które ilustrują treść zadania).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425160" indent="-425160">
              <a:spcBef>
                <a:spcPts val="550"/>
              </a:spcBef>
              <a:buClr>
                <a:srgbClr val="31b6fd"/>
              </a:buClr>
              <a:buFont typeface="Candar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73e87"/>
                </a:solidFill>
                <a:latin typeface="Candara"/>
              </a:rPr>
              <a:t>Ułożenie równania (szukamy dwóch wyrażeń, z których co najmniej jedno zawiera niewiadomą, przedstawiających tę samą wielkość i stawiamy między nimi znak równości).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425160" indent="-425160">
              <a:spcBef>
                <a:spcPts val="550"/>
              </a:spcBef>
              <a:buClr>
                <a:srgbClr val="31b6fd"/>
              </a:buClr>
              <a:buFont typeface="Candar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73e87"/>
                </a:solidFill>
                <a:latin typeface="Candara"/>
              </a:rPr>
              <a:t>Rozwiązanie równania.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425160" indent="-425160">
              <a:spcBef>
                <a:spcPts val="550"/>
              </a:spcBef>
              <a:buClr>
                <a:srgbClr val="31b6fd"/>
              </a:buClr>
              <a:buFont typeface="Candar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73e87"/>
                </a:solidFill>
                <a:latin typeface="Candara"/>
              </a:rPr>
              <a:t>Sprawdzenie, czy otrzymane rozwiązanie spełnia warunki zadania.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425160" indent="-425160">
              <a:spcBef>
                <a:spcPts val="550"/>
              </a:spcBef>
              <a:buClr>
                <a:srgbClr val="31b6fd"/>
              </a:buClr>
              <a:buFont typeface="Candar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73e87"/>
                </a:solidFill>
                <a:latin typeface="Candara"/>
              </a:rPr>
              <a:t>Zapisanie odpowiedzi.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425160" indent="-425160">
              <a:spcBef>
                <a:spcPts val="550"/>
              </a:spcBef>
              <a:buClr>
                <a:srgbClr val="31b6fd"/>
              </a:buClr>
              <a:buFont typeface="Candar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Candara"/>
              </a:rPr>
              <a:t>Plan rozwiązania zadania z treścią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 txBox="1"/>
          <p:nvPr/>
        </p:nvSpPr>
        <p:spPr>
          <a:xfrm>
            <a:off x="871560" y="1413000"/>
            <a:ext cx="74088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31b6fd"/>
              </a:buClr>
              <a:buFont typeface="Candar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Oblicz kiedy mama była od Tomka pięć razy starsza.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Wypełnijmy </a:t>
            </a:r>
            <a:br>
              <a:rPr sz="2400"/>
            </a:b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tabelkę: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457200" indent="-457200">
              <a:spcBef>
                <a:spcPts val="601"/>
              </a:spcBef>
              <a:buClr>
                <a:srgbClr val="31b6fd"/>
              </a:buClr>
              <a:buFont typeface="Candar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457200" indent="-457200">
              <a:spcBef>
                <a:spcPts val="601"/>
              </a:spcBef>
              <a:buClr>
                <a:srgbClr val="31b6fd"/>
              </a:buClr>
              <a:buFont typeface="Candar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457200" indent="-457200">
              <a:spcBef>
                <a:spcPts val="601"/>
              </a:spcBef>
              <a:buClr>
                <a:srgbClr val="31b6fd"/>
              </a:buClr>
              <a:buFont typeface="Candar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457200" indent="-457200">
              <a:spcBef>
                <a:spcPts val="601"/>
              </a:spcBef>
              <a:buClr>
                <a:srgbClr val="31b6fd"/>
              </a:buClr>
              <a:buFont typeface="Candar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457200" indent="-457200">
              <a:spcBef>
                <a:spcPts val="601"/>
              </a:spcBef>
              <a:buClr>
                <a:srgbClr val="31b6fd"/>
              </a:buClr>
              <a:buFont typeface="Candar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457200" indent="-457200">
              <a:spcBef>
                <a:spcPts val="601"/>
              </a:spcBef>
              <a:buClr>
                <a:srgbClr val="31b6fd"/>
              </a:buClr>
              <a:buFont typeface="Candar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457200" indent="-457200">
              <a:spcBef>
                <a:spcPts val="601"/>
              </a:spcBef>
              <a:buClr>
                <a:srgbClr val="31b6fd"/>
              </a:buClr>
              <a:buFont typeface="Candar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457200" indent="-457200">
              <a:spcBef>
                <a:spcPts val="601"/>
              </a:spcBef>
              <a:buClr>
                <a:srgbClr val="31b6fd"/>
              </a:buClr>
              <a:buFont typeface="Candar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457200" indent="-457200">
              <a:spcBef>
                <a:spcPts val="601"/>
              </a:spcBef>
              <a:buClr>
                <a:srgbClr val="31b6fd"/>
              </a:buClr>
              <a:buFont typeface="Candara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Candara"/>
              </a:rPr>
              <a:t>III. Metoda prób i błędów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graphicFrame>
        <p:nvGraphicFramePr>
          <p:cNvPr id="423" name=""/>
          <p:cNvGraphicFramePr/>
          <p:nvPr/>
        </p:nvGraphicFramePr>
        <p:xfrm>
          <a:off x="3276720" y="1989000"/>
          <a:ext cx="5256000" cy="4389480"/>
        </p:xfrm>
        <a:graphic>
          <a:graphicData uri="http://schemas.openxmlformats.org/drawingml/2006/table">
            <a:tbl>
              <a:tblPr/>
              <a:tblGrid>
                <a:gridCol w="1751040"/>
                <a:gridCol w="1752480"/>
                <a:gridCol w="175248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Candara"/>
                        </a:rPr>
                        <a:t>Wiek Tomk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Candara"/>
                        </a:rPr>
                        <a:t>Wiek matk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obecn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rok tem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2 lata tem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3 lata tem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4 lata tem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5 lata tem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6 lata tem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7 lata tem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8 lata tem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9 lata tem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10 laty tem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Liczby  6 i 30 spełniają warunki zadania, bo 6 </a:t>
            </a:r>
            <a:r>
              <a:rPr b="0" lang="pl-PL" sz="2400" spc="-1" strike="noStrike">
                <a:solidFill>
                  <a:srgbClr val="073e87"/>
                </a:solidFill>
                <a:latin typeface="Cambria Math"/>
                <a:ea typeface="Cambria Math"/>
              </a:rPr>
              <a:t>∙ 5= 30</a:t>
            </a: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Zatem </a:t>
            </a:r>
            <a:r>
              <a:rPr b="0" lang="pl-PL" sz="2400" spc="-1" strike="noStrike">
                <a:solidFill>
                  <a:srgbClr val="c00000"/>
                </a:solidFill>
                <a:latin typeface="Candara"/>
              </a:rPr>
              <a:t>8 lat temu </a:t>
            </a: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mama była 5 razy starsza od Tomka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Candara"/>
              </a:rPr>
              <a:t>III. Metoda prób i błędów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 txBox="1"/>
          <p:nvPr/>
        </p:nvSpPr>
        <p:spPr>
          <a:xfrm>
            <a:off x="871560" y="1484280"/>
            <a:ext cx="74088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31b6fd"/>
              </a:buClr>
              <a:buFont typeface="Candara"/>
              <a:buAutoNum type="alphaL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Za ile lat będzie od niego dwa razy starsza?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Wypełnijmy tabelkę: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Candara"/>
              </a:rPr>
              <a:t>III. Metoda prób i błędów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graphicFrame>
        <p:nvGraphicFramePr>
          <p:cNvPr id="428" name=""/>
          <p:cNvGraphicFramePr/>
          <p:nvPr/>
        </p:nvGraphicFramePr>
        <p:xfrm>
          <a:off x="3780000" y="2060640"/>
          <a:ext cx="5111640" cy="4449600"/>
        </p:xfrm>
        <a:graphic>
          <a:graphicData uri="http://schemas.openxmlformats.org/drawingml/2006/table">
            <a:tbl>
              <a:tblPr/>
              <a:tblGrid>
                <a:gridCol w="1704960"/>
                <a:gridCol w="1703160"/>
                <a:gridCol w="17035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Candara"/>
                        </a:rPr>
                        <a:t>Wiek Tomk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Candara"/>
                        </a:rPr>
                        <a:t>Wiek matk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obecn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Za ro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Za 2 la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Za 3 la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4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Za 4 la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Za 5 la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Za 6 la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Za 7 la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4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Za 8 la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4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Za 9 la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4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Za 10 la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Liczby z ostatniego wiersza spełniają warunki zadania, gdyż 24 </a:t>
            </a:r>
            <a:r>
              <a:rPr b="0" lang="pl-PL" sz="2400" spc="-1" strike="noStrike">
                <a:solidFill>
                  <a:srgbClr val="073e87"/>
                </a:solidFill>
                <a:latin typeface="Cambria Math"/>
                <a:ea typeface="Cambria Math"/>
              </a:rPr>
              <a:t>∙ 2 = 48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73e87"/>
                </a:solidFill>
                <a:latin typeface="Cambria Math"/>
                <a:ea typeface="Cambria Math"/>
              </a:rPr>
              <a:t>Zatem </a:t>
            </a:r>
            <a:r>
              <a:rPr b="0" lang="pl-PL" sz="2400" spc="-1" strike="noStrike">
                <a:solidFill>
                  <a:srgbClr val="c00000"/>
                </a:solidFill>
                <a:latin typeface="Cambria Math"/>
                <a:ea typeface="Cambria Math"/>
              </a:rPr>
              <a:t>za 10 lat mama</a:t>
            </a:r>
            <a:r>
              <a:rPr b="0" lang="pl-PL" sz="2400" spc="-1" strike="noStrike">
                <a:solidFill>
                  <a:srgbClr val="073e87"/>
                </a:solidFill>
                <a:latin typeface="Cambria Math"/>
                <a:ea typeface="Cambria Math"/>
              </a:rPr>
              <a:t> będzie 2 razy starsza od Tomka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Candara"/>
              </a:rPr>
              <a:t>III. Metoda prób i błędów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W prezentacji zostały wykorzystane zadania</a:t>
            </a:r>
            <a:br>
              <a:rPr sz="2400"/>
            </a:b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 z podręcznika GWO MATEMATYKA Z PLUSEM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Opracowała: Anna Jąkalska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73e87"/>
                </a:solidFill>
                <a:latin typeface="Candara"/>
              </a:rPr>
              <a:t>Zadnia dotyczące wieku sprawiają nie mały kłopot gimnazjalistom. Oto kilka sposobów, które ułatwią zrozumienie </a:t>
            </a:r>
            <a:br>
              <a:rPr sz="3200"/>
            </a:br>
            <a:r>
              <a:rPr b="0" lang="pl-PL" sz="3200" spc="-1" strike="noStrike">
                <a:solidFill>
                  <a:srgbClr val="073e87"/>
                </a:solidFill>
                <a:latin typeface="Candara"/>
              </a:rPr>
              <a:t>i rozwiązanie tego typu zadań. 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Candara"/>
              </a:rPr>
              <a:t>Zadania dotyczące „wieku”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73e87"/>
                </a:solidFill>
                <a:latin typeface="Candara"/>
              </a:rPr>
              <a:t>Zadanie 1. Za 3 lata Grześ będzie 3 razy starszy niż 3 lata temu. Ile lat ma Grześ?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73e87"/>
                </a:solidFill>
                <a:latin typeface="Candara"/>
              </a:rPr>
              <a:t>Rozwiązanie: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31b6fd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73e87"/>
                </a:solidFill>
                <a:latin typeface="Candara"/>
              </a:rPr>
              <a:t>Analiza zadania.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73e87"/>
                </a:solidFill>
                <a:latin typeface="Candara"/>
              </a:rPr>
              <a:t>Pytania pomocnicze: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31b6fd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73e87"/>
                </a:solidFill>
                <a:latin typeface="Candara"/>
              </a:rPr>
              <a:t>Ile osób występuje w zadaniu?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31b6fd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73e87"/>
                </a:solidFill>
                <a:latin typeface="Candara"/>
              </a:rPr>
              <a:t>Ile okresów czasu pojawia się w zadaniu?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31b6fd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73e87"/>
                </a:solidFill>
                <a:latin typeface="Candara"/>
              </a:rPr>
              <a:t>Co oznaczymy przez niewiadomą?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pl-PL" sz="4000" spc="-1" strike="noStrike">
                <a:solidFill>
                  <a:srgbClr val="ffffff"/>
                </a:solidFill>
                <a:latin typeface="Candara"/>
              </a:rPr>
              <a:t>I. Metoda tabelki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3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3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3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3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3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3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3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3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3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3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3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3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Uzupełnij tabelkę wykorzystując podane wyrażenia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Candara"/>
              </a:rPr>
              <a:t>I. Metoda tabelki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graphicFrame>
        <p:nvGraphicFramePr>
          <p:cNvPr id="351" name=""/>
          <p:cNvGraphicFramePr/>
          <p:nvPr/>
        </p:nvGraphicFramePr>
        <p:xfrm>
          <a:off x="1163520" y="3284640"/>
          <a:ext cx="6096240" cy="1008000"/>
        </p:xfrm>
        <a:graphic>
          <a:graphicData uri="http://schemas.openxmlformats.org/drawingml/2006/table">
            <a:tbl>
              <a:tblPr/>
              <a:tblGrid>
                <a:gridCol w="1524240"/>
                <a:gridCol w="1523880"/>
                <a:gridCol w="1523880"/>
                <a:gridCol w="1524240"/>
              </a:tblGrid>
              <a:tr h="504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</a:tr>
              <a:tr h="5032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Grześ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</a:tr>
            </a:tbl>
          </a:graphicData>
        </a:graphic>
      </p:graphicFrame>
      <p:sp>
        <p:nvSpPr>
          <p:cNvPr id="352" name="pole tekstowe 5"/>
          <p:cNvSpPr/>
          <p:nvPr/>
        </p:nvSpPr>
        <p:spPr>
          <a:xfrm>
            <a:off x="6875640" y="5299200"/>
            <a:ext cx="136836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</a:rPr>
              <a:t>za 3 lata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53" name="pole tekstowe 7"/>
          <p:cNvSpPr/>
          <p:nvPr/>
        </p:nvSpPr>
        <p:spPr>
          <a:xfrm>
            <a:off x="2987640" y="5126040"/>
            <a:ext cx="136836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</a:rPr>
              <a:t>x- 3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54" name="pole tekstowe 8"/>
          <p:cNvSpPr/>
          <p:nvPr/>
        </p:nvSpPr>
        <p:spPr>
          <a:xfrm>
            <a:off x="4859280" y="4724280"/>
            <a:ext cx="136836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</a:rPr>
              <a:t>X+3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55" name="pole tekstowe 9"/>
          <p:cNvSpPr/>
          <p:nvPr/>
        </p:nvSpPr>
        <p:spPr>
          <a:xfrm>
            <a:off x="2843280" y="4570560"/>
            <a:ext cx="136836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</a:rPr>
              <a:t>3(x+3)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56" name="pole tekstowe 10"/>
          <p:cNvSpPr/>
          <p:nvPr/>
        </p:nvSpPr>
        <p:spPr>
          <a:xfrm>
            <a:off x="4836960" y="5299200"/>
            <a:ext cx="136872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</a:rPr>
              <a:t>3 lata temu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57" name="pole tekstowe 11"/>
          <p:cNvSpPr/>
          <p:nvPr/>
        </p:nvSpPr>
        <p:spPr>
          <a:xfrm>
            <a:off x="6875640" y="4788000"/>
            <a:ext cx="136836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</a:rPr>
              <a:t>3(x-3)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58" name="pole tekstowe 12"/>
          <p:cNvSpPr/>
          <p:nvPr/>
        </p:nvSpPr>
        <p:spPr>
          <a:xfrm>
            <a:off x="1268280" y="5094360"/>
            <a:ext cx="136872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</a:rPr>
              <a:t>3x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59" name="pole tekstowe 13"/>
          <p:cNvSpPr/>
          <p:nvPr/>
        </p:nvSpPr>
        <p:spPr>
          <a:xfrm>
            <a:off x="1268280" y="4573440"/>
            <a:ext cx="136872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60" name="Łącznik prostoliniowy 2"/>
          <p:cNvSpPr/>
          <p:nvPr/>
        </p:nvSpPr>
        <p:spPr>
          <a:xfrm>
            <a:off x="1219320" y="3284640"/>
            <a:ext cx="141768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61" name="Łącznik prostoliniowy 6"/>
          <p:cNvSpPr/>
          <p:nvPr/>
        </p:nvSpPr>
        <p:spPr>
          <a:xfrm flipV="1">
            <a:off x="1219320" y="3284640"/>
            <a:ext cx="141768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0000"/>
              </a:lnSpc>
              <a:spcBef>
                <a:spcPts val="550"/>
              </a:spcBef>
              <a:buClr>
                <a:srgbClr val="31b6fd"/>
              </a:buClr>
              <a:buFont typeface="Candar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73e87"/>
                </a:solidFill>
                <a:latin typeface="Candara"/>
              </a:rPr>
              <a:t>Wskaż równanie, które doprowadzi do rozwiązania zadania.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457200" indent="-4572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0" lang="pl-PL" sz="2200" spc="-1" strike="noStrike">
                <a:solidFill>
                  <a:srgbClr val="073e87"/>
                </a:solidFill>
                <a:latin typeface="Candara"/>
              </a:rPr>
              <a:t>x+3=3(x-3)</a:t>
            </a:r>
            <a:r>
              <a:rPr b="0" lang="pl-PL" sz="22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0" lang="pl-PL" sz="22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0" lang="pl-PL" sz="2200" spc="-1" strike="noStrike">
                <a:solidFill>
                  <a:srgbClr val="073e87"/>
                </a:solidFill>
                <a:latin typeface="Candara"/>
              </a:rPr>
              <a:t>x-3=3(x+3)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457200" indent="-4572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0" lang="pl-PL" sz="2200" spc="-1" strike="noStrike">
                <a:solidFill>
                  <a:srgbClr val="073e87"/>
                </a:solidFill>
                <a:latin typeface="Candara"/>
              </a:rPr>
              <a:t>x+3=3x</a:t>
            </a:r>
            <a:r>
              <a:rPr b="0" lang="pl-PL" sz="22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0" lang="pl-PL" sz="22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0" lang="pl-PL" sz="22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0" lang="pl-PL" sz="2200" spc="-1" strike="noStrike">
                <a:solidFill>
                  <a:srgbClr val="073e87"/>
                </a:solidFill>
                <a:latin typeface="Candara"/>
              </a:rPr>
              <a:t>3x=x-3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457200" indent="-457200">
              <a:lnSpc>
                <a:spcPct val="80000"/>
              </a:lnSpc>
              <a:spcBef>
                <a:spcPts val="550"/>
              </a:spcBef>
              <a:buClr>
                <a:srgbClr val="31b6fd"/>
              </a:buClr>
              <a:buFont typeface="Candar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73e87"/>
                </a:solidFill>
                <a:latin typeface="Candara"/>
              </a:rPr>
              <a:t>Rozwiąż równanie.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457200" indent="-4572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0" lang="pl-PL" sz="2200" spc="-1" strike="noStrike">
                <a:solidFill>
                  <a:srgbClr val="073e87"/>
                </a:solidFill>
                <a:latin typeface="Candara"/>
              </a:rPr>
              <a:t> </a:t>
            </a:r>
            <a:r>
              <a:rPr b="0" lang="pl-PL" sz="2200" spc="-1" strike="noStrike">
                <a:solidFill>
                  <a:srgbClr val="073e87"/>
                </a:solidFill>
                <a:latin typeface="Candara"/>
              </a:rPr>
              <a:t>x+3=3(x-3)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457200" indent="-457200">
              <a:lnSpc>
                <a:spcPct val="80000"/>
              </a:lnSpc>
              <a:spcBef>
                <a:spcPts val="550"/>
              </a:spcBef>
              <a:buClr>
                <a:srgbClr val="31b6fd"/>
              </a:buClr>
              <a:buFont typeface="Candar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73e87"/>
                </a:solidFill>
                <a:latin typeface="Candara"/>
              </a:rPr>
              <a:t>Sprawdzenie, czy otrzymane rozwiązanie spełnia warunki zadania.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457200" indent="-457200">
              <a:lnSpc>
                <a:spcPct val="80000"/>
              </a:lnSpc>
              <a:spcBef>
                <a:spcPts val="550"/>
              </a:spcBef>
              <a:buClr>
                <a:srgbClr val="31b6fd"/>
              </a:buClr>
              <a:buFont typeface="Candar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73e87"/>
                </a:solidFill>
                <a:latin typeface="Candara"/>
              </a:rPr>
              <a:t>Zapisz odpowiedź.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457200" indent="-4572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0" lang="pl-PL" sz="2200" spc="-1" strike="noStrike">
                <a:solidFill>
                  <a:srgbClr val="073e87"/>
                </a:solidFill>
                <a:latin typeface="Candara"/>
              </a:rPr>
              <a:t>Odp. Grześ ma </a:t>
            </a:r>
            <a:r>
              <a:rPr b="0" lang="pl-PL" sz="2200" spc="-1" strike="noStrike" u="sng">
                <a:solidFill>
                  <a:srgbClr val="073e87"/>
                </a:solidFill>
                <a:uFillTx/>
                <a:latin typeface="Candara"/>
              </a:rPr>
              <a:t>	</a:t>
            </a:r>
            <a:r>
              <a:rPr b="0" lang="pl-PL" sz="2200" spc="-1" strike="noStrike" u="sng">
                <a:solidFill>
                  <a:srgbClr val="073e87"/>
                </a:solidFill>
                <a:uFillTx/>
                <a:latin typeface="Candara"/>
              </a:rPr>
              <a:t>      </a:t>
            </a:r>
            <a:r>
              <a:rPr b="0" lang="pl-PL" sz="2200" spc="-1" strike="noStrike">
                <a:solidFill>
                  <a:srgbClr val="073e87"/>
                </a:solidFill>
                <a:latin typeface="Candara"/>
              </a:rPr>
              <a:t> lat.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457200" indent="-457200">
              <a:lnSpc>
                <a:spcPct val="80000"/>
              </a:lnSpc>
              <a:spcBef>
                <a:spcPts val="550"/>
              </a:spcBef>
              <a:buClr>
                <a:srgbClr val="31b6fd"/>
              </a:buClr>
              <a:buFont typeface="Candar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457200" indent="-457200">
              <a:lnSpc>
                <a:spcPct val="80000"/>
              </a:lnSpc>
              <a:spcBef>
                <a:spcPts val="550"/>
              </a:spcBef>
              <a:buClr>
                <a:srgbClr val="31b6fd"/>
              </a:buClr>
              <a:buFont typeface="Candar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457200" indent="-4572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457200" indent="-4572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Candara"/>
              </a:rPr>
              <a:t>I. Metoda tabelki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3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3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3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3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3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3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3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3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3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3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3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3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 txBox="1"/>
          <p:nvPr/>
        </p:nvSpPr>
        <p:spPr>
          <a:xfrm>
            <a:off x="871560" y="1773000"/>
            <a:ext cx="740880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Określenie niewiadomej: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x – obecny wiek Grzesia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Metoda ta, podobnie jak poprzednia, prowadzi do zapisu treści zadania w postaci równania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Z treści zadania wiemy, że trzykrotność wieku Grzesia trzy lata temu daje jego wiek za trzy lata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Zatem:</a:t>
            </a: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 3(x – 3) = x +3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Candara"/>
              </a:rPr>
              <a:t>II. Metoda rysunku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1403280" y="2708280"/>
          <a:ext cx="3097440" cy="1112760"/>
        </p:xfrm>
        <a:graphic>
          <a:graphicData uri="http://schemas.openxmlformats.org/drawingml/2006/table">
            <a:tbl>
              <a:tblPr/>
              <a:tblGrid>
                <a:gridCol w="1548000"/>
                <a:gridCol w="154944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Candara"/>
                        </a:rPr>
                        <a:t>x – 3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  <a:tc rowSpan="3"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Candara"/>
                        </a:rPr>
                        <a:t>x +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x – 3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x – 3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3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3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3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3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3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3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Spróbujmy rozwiązać to samo zadanie nie zapisując równania. Wykorzystajmy metodę prób i błędów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buClr>
                <a:srgbClr val="31b6fd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Dokonajmy analizy zadania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Pierwsze zdanie z zadania - za 3 lata Grześ będzie 3 razy starszy niż 3 lata temu – informuje nas, że należy porównać wiek Grzesia sprzed 3 lat i ten, który osiągnie za 3 lata. 3 lata temu Grześ mógł mieć 1 rok lub 2 lata lub 3 lata itd. Wypełnijmy tabelkę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Candara"/>
              </a:rPr>
              <a:t>III. Metoda prób i błędów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 txBox="1"/>
          <p:nvPr/>
        </p:nvSpPr>
        <p:spPr>
          <a:xfrm>
            <a:off x="871560" y="2060280"/>
            <a:ext cx="740880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2. Wypełnijmy tabelkę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3. Jak łatwo zauważyć liczby z trzeciego wiersz spełniają warunki zadania. Zatem Grześ ma 6 lat.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Candara"/>
              </a:rPr>
              <a:t>III. Metoda prób i błędów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71" name="Picture 2" descr=""/>
          <p:cNvPicPr/>
          <p:nvPr/>
        </p:nvPicPr>
        <p:blipFill>
          <a:blip r:embed="rId1"/>
          <a:stretch/>
        </p:blipFill>
        <p:spPr>
          <a:xfrm>
            <a:off x="1012680" y="2565360"/>
            <a:ext cx="7419960" cy="2384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3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3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3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30T16:36:18Z</dcterms:created>
  <dc:creator>Ania</dc:creator>
  <dc:description/>
  <dc:language>en-US</dc:language>
  <cp:lastModifiedBy>Ania</cp:lastModifiedBy>
  <dcterms:modified xsi:type="dcterms:W3CDTF">2013-05-21T20:10:56Z</dcterms:modified>
  <cp:revision>142</cp:revision>
  <dc:subject/>
  <dc:title>Rozwiązywanie zadań tekstowych stosując równania</dc:title>
</cp:coreProperties>
</file>